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8.jpeg" ContentType="image/jpeg"/>
  <Override PartName="/ppt/media/image16.pct" ContentType="image/x-pict"/>
  <Override PartName="/ppt/media/image7.jpeg" ContentType="image/jpeg"/>
  <Override PartName="/ppt/media/image20.png" ContentType="image/png"/>
  <Override PartName="/ppt/media/image11.jpeg" ContentType="image/jpeg"/>
  <Override PartName="/ppt/media/image10.pct" ContentType="image/x-pict"/>
  <Override PartName="/ppt/media/image6.jpeg" ContentType="image/jpeg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2.jpeg" ContentType="image/jpeg"/>
  <Override PartName="/ppt/media/image18.pct" ContentType="image/x-pict"/>
  <Override PartName="/ppt/media/image1.jpeg" ContentType="image/jpeg"/>
  <Override PartName="/ppt/media/image3.jpeg" ContentType="image/jpeg"/>
  <Override PartName="/ppt/media/image5.jpeg" ContentType="image/jpeg"/>
  <Override PartName="/ppt/media/image1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219456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80B-26CE-4A8B-AC1A-BD693CE6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A64-0FC0-4972-B1E5-76521CE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D52-534B-445B-8DFC-25D2F81B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8F0-8A7A-4DDE-8C64-C4B9F7F7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757-1B5B-4DC4-BFAA-6128063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85B-A131-4C37-9FDF-E0C5BD5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421-E162-4A07-AB59-3CA97075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DD9-68FA-4423-9114-962C248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951200"/>
            <a:ext cx="186530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993-4224-443C-ADFE-D310A4ED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CF1-5F60-4FCD-9D34-0A017DB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51A-D2B6-430E-B70F-07C819C1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C69-4367-4652-B185-7CAF44E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marL="939960" indent="-9399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1" marL="2038320" indent="-78408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2" marL="3135240" indent="-62712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3" marL="4389480" indent="-62712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4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5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6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19994400"/>
            <a:ext cx="695016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 algn="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fld id="{9B484B52-A7B4-4082-B816-24351AE6205A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jpeg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image" Target="../media/image16.pct"/><Relationship Id="rId9" Type="http://schemas.openxmlformats.org/officeDocument/2006/relationships/image" Target="../media/image17.pct"/><Relationship Id="rId10" Type="http://schemas.openxmlformats.org/officeDocument/2006/relationships/image" Target="../media/image18.pct"/><Relationship Id="rId11" Type="http://schemas.openxmlformats.org/officeDocument/2006/relationships/image" Target="../media/image19.pct"/><Relationship Id="rId12" Type="http://schemas.openxmlformats.org/officeDocument/2006/relationships/image" Target="../media/image20.png"/><Relationship Id="rId13" Type="http://schemas.openxmlformats.org/officeDocument/2006/relationships/image" Target="../media/image21.pct"/><Relationship Id="rId14" Type="http://schemas.openxmlformats.org/officeDocument/2006/relationships/image" Target="../media/image22.pct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600200"/>
            <a:ext cx="2819520" cy="2438280"/>
          </a:xfrm>
          <a:prstGeom prst="rect">
            <a:avLst/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1295280"/>
            <a:ext cx="3353040" cy="2895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2120" y="1295280"/>
            <a:ext cx="3124080" cy="3353040"/>
          </a:xfrm>
          <a:prstGeom prst="diamond">
            <a:avLst/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26160" y="211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30800" y="1447920"/>
            <a:ext cx="2971800" cy="2895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6705720"/>
            <a:ext cx="3124080" cy="33526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6934320"/>
            <a:ext cx="2971800" cy="2895480"/>
          </a:xfrm>
          <a:prstGeom prst="ellipse">
            <a:avLst/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7120" y="7010280"/>
            <a:ext cx="2819160" cy="243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2192120"/>
            <a:ext cx="3353040" cy="2895480"/>
          </a:xfrm>
          <a:prstGeom prst="triangle">
            <a:avLst>
              <a:gd name="adj" fmla="val 50000"/>
            </a:avLst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78520" y="12115800"/>
            <a:ext cx="3124080" cy="3352680"/>
          </a:xfrm>
          <a:prstGeom prst="diamond">
            <a:avLst/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7830800"/>
            <a:ext cx="2971800" cy="2895480"/>
          </a:xfrm>
          <a:prstGeom prst="ellipse">
            <a:avLst/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15800" y="12573000"/>
            <a:ext cx="2971800" cy="289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754480" y="18135720"/>
            <a:ext cx="2819520" cy="2438280"/>
          </a:xfrm>
          <a:prstGeom prst="rect">
            <a:avLst/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7678520"/>
            <a:ext cx="3352680" cy="2895480"/>
          </a:xfrm>
          <a:prstGeom prst="triangle">
            <a:avLst>
              <a:gd name="adj" fmla="val 50000"/>
            </a:avLst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68080" y="7086600"/>
            <a:ext cx="2819520" cy="243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15800" y="17754480"/>
            <a:ext cx="3352680" cy="28958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12268080"/>
            <a:ext cx="3124080" cy="33530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2997000" cy="2946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9400" y="6934320"/>
            <a:ext cx="30733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887200" y="1371600"/>
            <a:ext cx="3479760" cy="331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810880" y="17525880"/>
            <a:ext cx="363240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914400" y="12268080"/>
            <a:ext cx="3263760" cy="313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525880" y="17602200"/>
            <a:ext cx="3302280" cy="306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7221320" y="6400800"/>
            <a:ext cx="4038480" cy="396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838080" y="17297280"/>
            <a:ext cx="4013280" cy="396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4480" y="1676520"/>
            <a:ext cx="39625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45000" y="1295280"/>
            <a:ext cx="39625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7086600"/>
            <a:ext cx="4419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uar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7983080"/>
            <a:ext cx="39625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0" y="12420720"/>
            <a:ext cx="46483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enn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145000" y="11810880"/>
            <a:ext cx="39625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10880" y="6400800"/>
            <a:ext cx="39625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12039480"/>
            <a:ext cx="35812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 c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030200" y="3200400"/>
            <a:ext cx="1495440" cy="1747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516600" y="2895480"/>
            <a:ext cx="1598760" cy="218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05720" y="3048120"/>
            <a:ext cx="3124080" cy="223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828800" y="3429000"/>
            <a:ext cx="1811160" cy="151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8440280" y="8763120"/>
            <a:ext cx="1300320" cy="1827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676520" y="8610480"/>
            <a:ext cx="17650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1810880" y="8512200"/>
            <a:ext cx="3962520" cy="253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2801600" y="14141520"/>
            <a:ext cx="1730520" cy="1860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17754480" y="14560560"/>
            <a:ext cx="2438640" cy="98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7315200" y="13944600"/>
            <a:ext cx="184320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1905120" y="13944600"/>
            <a:ext cx="1466640" cy="1892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7162920" y="19354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6760" y="106668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41400" y="106668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499200" y="99072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137520" y="1066680"/>
            <a:ext cx="187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360" y="6705720"/>
            <a:ext cx="222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9120" y="670572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8763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50760" y="17221320"/>
            <a:ext cx="17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804120" y="670572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14560" y="6705720"/>
            <a:ext cx="187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3760" y="11887200"/>
            <a:ext cx="2649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0680" y="1181088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52200" y="1173492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be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61560" y="11810880"/>
            <a:ext cx="187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2057400" y="19126080"/>
            <a:ext cx="1909800" cy="184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17602200" y="19735920"/>
            <a:ext cx="3505320" cy="81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79400" y="1722132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h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3160" y="1714500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ba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32600" y="17221320"/>
            <a:ext cx="243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106520" y="192024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3:33:49Z</dcterms:created>
  <dc:creator>Karen Reynolds</dc:creator>
  <dc:description/>
  <dc:language>en-US</dc:language>
  <cp:lastModifiedBy>Karen Reynolds</cp:lastModifiedBy>
  <dcterms:modified xsi:type="dcterms:W3CDTF">2007-07-31T00:15:54Z</dcterms:modified>
  <cp:revision>8</cp:revision>
  <dc:subject/>
  <dc:title>PowerPoint Presentation</dc:title>
</cp:coreProperties>
</file>